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media/image12.wmf" ContentType="image/x-wmf"/>
  <Override PartName="/ppt/media/image19.wmf" ContentType="image/x-wmf"/>
  <Override PartName="/ppt/media/image18.jpeg" ContentType="image/jpeg"/>
  <Override PartName="/ppt/media/image16.wmf" ContentType="image/x-wmf"/>
  <Override PartName="/ppt/media/image15.jpeg" ContentType="image/jpeg"/>
  <Override PartName="/ppt/media/image14.wmf" ContentType="image/x-wmf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20.wmf" ContentType="image/x-wmf"/>
  <Override PartName="/ppt/media/image6.jpeg" ContentType="image/jpe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DCD2-D07F-410B-AD38-E4A10BD57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4D50-0D31-4BBB-8D25-A7252611C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B2C8-46C6-4508-BE73-E5DC7657A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8C6F-1218-40FC-95C6-4FFF3E14F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09AC-8EE0-48E9-B753-070686275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8411-CAB0-4E5D-B04C-3EC9D2995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EB04-AC2A-46CC-8F1C-61D43DCC2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6425-132F-48DB-8B92-7F044FA7B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24B4-2210-4455-9A6E-1696B430B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0260-842D-4570-9B94-920ED309B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EA25-86C2-489C-AC22-8E4B3C77E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C2A2-31EA-4152-B4EC-0D5BA1162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10E3-9CD5-452D-944F-AD7C5F460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FA8A-4641-4AAB-9C6F-1E53CEC6D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8377-32B4-4A4E-B832-28C5619FD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1B6C-C4EB-43B1-B30B-BB4AF8810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49DC-4F24-4364-9879-677F2DC70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46F3-F562-4864-A947-D955E5C10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A41F-B94D-49D9-9FA2-2A6238AB8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4074-4CB7-4A39-868A-224712B66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08BF-ADAA-4CAA-A500-BB5281F2D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7E59-6A9A-4D5E-9345-43592257B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7849-89B8-4299-84B7-6C495DAA3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3F85-8AE9-49C0-AFB3-173451B1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4F66-604E-4559-83CE-54B6F8632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1046-2ADF-4353-B6A3-085BC7E7E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4708-87B9-4551-892C-02C80DF16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3A2-A92F-4FF1-8868-4BAE0422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B65-E5E0-4777-A05D-24212834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4E0-1912-44CB-9E78-5C3D58C9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985-460C-437C-9E04-0DED6CEB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DE1-5D23-49D8-BC04-60D3AABF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319-443D-4370-8F5A-7A0FBCED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CB7-71A3-4EE7-945B-502EDB5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C4A-22D7-4410-8962-AF9AF8E1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467-DD65-45DA-8906-80A0EC5C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416-0535-4511-9494-E1CD244D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E60-B3B4-4567-9608-2466EB33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D91-D7C1-4029-8D3B-F863AF25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9643-E4CA-4FCE-BE65-4C33FB7B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3AA9-5198-432E-855F-3AEC9206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DE74-7DFC-44DA-B4C6-EB8B4F4F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8D18-CDEF-415B-9D79-E0970CEE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4135-41BC-4EFD-9340-43768AC7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D80D-960C-4479-89A7-7EBAC1F4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5AFC-91B1-4149-A092-A06D9704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2AA3-5CF9-41EF-9DE9-90A79E8B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74A5-879F-4F2C-BAA4-666D2AFE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3820-EACB-433C-A0F8-F7940D29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52FD-C4F4-437A-933C-CAE63AD4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39F4-0CBE-4612-9FE2-EFCF2ABC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1872-C210-404C-B813-32FC5FD30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22B3-A342-4825-8D9D-E019B853D3E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457200"/>
            <a:ext cx="495324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ocratic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eminars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140" name="Picture 142" descr="Socratesclipart2"/>
          <p:cNvPicPr/>
          <p:nvPr/>
        </p:nvPicPr>
        <p:blipFill>
          <a:blip r:embed="rId1"/>
          <a:stretch/>
        </p:blipFill>
        <p:spPr>
          <a:xfrm>
            <a:off x="3200400" y="2590920"/>
            <a:ext cx="3200400" cy="27176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43"/>
          <p:cNvSpPr/>
          <p:nvPr/>
        </p:nvSpPr>
        <p:spPr>
          <a:xfrm>
            <a:off x="1371600" y="55627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49375"/>
                </a:solidFill>
                <a:latin typeface="Times-Italic"/>
              </a:rPr>
              <a:t>Where questions, not answers, are the driving force in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Starting Dialogu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cc"/>
                </a:solidFill>
                <a:latin typeface="Arial"/>
              </a:rPr>
              <a:t>Students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Arial"/>
              </a:rPr>
              <a:t>must risk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making mistakes in order to learn how to learn to think critically, and work collaborativel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6858000" y="4876920"/>
          <a:ext cx="21114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876920"/>
                    <a:ext cx="21114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5"/>
          <p:cNvSpPr/>
          <p:nvPr/>
        </p:nvSpPr>
        <p:spPr>
          <a:xfrm>
            <a:off x="1143000" y="32767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cc"/>
                </a:solidFill>
                <a:latin typeface="Arial"/>
              </a:rPr>
              <a:t>Teachers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this risk-taking when they take their own risks in                             learning how to improve                       themselves as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1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Dialogue is NOT Debate!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72" name="Object 2"/>
          <p:cNvGraphicFramePr/>
          <p:nvPr/>
        </p:nvGraphicFramePr>
        <p:xfrm>
          <a:off x="2362320" y="1752480"/>
          <a:ext cx="502920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502920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181120" y="1599840"/>
            <a:ext cx="3962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78920" indent="-178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s other’s reflections will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ir own thin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ily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spending one's belie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es for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r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ects oth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seeks not to alien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s that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op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lead to greater understa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ains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pen-e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43000" y="1600200"/>
            <a:ext cx="4114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ends thinking to show that it is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s for investing in one's belie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earches for weakn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buts contrary positions and may belittl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ate assumes a single right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s a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1430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ebate                Dialog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" dur="1" fill="hold"/>
                                  <p:tgtEl>
                                    <p:spTgt spid="1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Four Elemen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ffective seminar consists of four interdependent elemen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ex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ing conside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ques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ai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emina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ea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articip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5943600" y="4267080"/>
          <a:ext cx="266688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267080"/>
                    <a:ext cx="26668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6" dur="1" fill="hold"/>
                                  <p:tgtEl>
                                    <p:spTgt spid="1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Tex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eminar text can be drawn from readings in literature, history, science, math, health, and philosophy or from works of art or musi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5257800" y="3827520"/>
          <a:ext cx="359568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827520"/>
                    <a:ext cx="359568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Tex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cratic Seminar texts are chosen for thei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richness in ideas, issues, and valu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their ability to stimulate extended, thoughtful dialogue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2"/>
          <p:cNvGraphicFramePr/>
          <p:nvPr/>
        </p:nvGraphicFramePr>
        <p:xfrm>
          <a:off x="3886200" y="3809880"/>
          <a:ext cx="2819520" cy="25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809880"/>
                    <a:ext cx="28195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Ques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opening questio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as no right 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 reflects a genuine curiosity on the part of the leader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black kid talking"/>
          <p:cNvPicPr/>
          <p:nvPr/>
        </p:nvPicPr>
        <p:blipFill>
          <a:blip r:embed="rId1"/>
          <a:stretch/>
        </p:blipFill>
        <p:spPr>
          <a:xfrm>
            <a:off x="6324480" y="4038480"/>
            <a:ext cx="2362320" cy="2438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447920" y="4114800"/>
            <a:ext cx="451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Should human embryos be cloned in order to sav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Ques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ffective opening question leads participant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back to the tex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y speculate, evaluate, define, and clarify the issues involv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es to the opening question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enerate new ques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ne of inquiry evolve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on                       the sp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ather than being predetermined by the lead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7467480" y="4724280"/>
          <a:ext cx="1287720" cy="17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4724280"/>
                    <a:ext cx="128772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Leader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s a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dual ro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s leader and participa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ciously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a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thoughtful exploration of the ideas in the                      tex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seminar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ticipa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                actively engages in the                      group's exploration of                               the tex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girl talking"/>
          <p:cNvPicPr/>
          <p:nvPr/>
        </p:nvPicPr>
        <p:blipFill>
          <a:blip r:embed="rId1"/>
          <a:stretch/>
        </p:blipFill>
        <p:spPr>
          <a:xfrm>
            <a:off x="7238880" y="3733920"/>
            <a:ext cx="1590840" cy="2857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Leader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ust be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Times New Roman"/>
              </a:rPr>
              <a:t>pati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enough to allow participants’ understandings to evol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e willing to help                     participants explore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Times New Roman"/>
              </a:rPr>
              <a:t>non-traditional insigh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unexpected                          interpre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girl talking"/>
          <p:cNvPicPr/>
          <p:nvPr/>
        </p:nvPicPr>
        <p:blipFill>
          <a:blip r:embed="rId1"/>
          <a:stretch/>
        </p:blipFill>
        <p:spPr>
          <a:xfrm>
            <a:off x="7238880" y="3733920"/>
            <a:ext cx="1590840" cy="2857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5" dur="1" fill="hold"/>
                                  <p:tgtEl>
                                    <p:spTgt spid="2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457200"/>
            <a:ext cx="495324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ocratic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eminars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143" name="Picture 141" descr="socratic seminar group"/>
          <p:cNvPicPr/>
          <p:nvPr/>
        </p:nvPicPr>
        <p:blipFill>
          <a:blip r:embed="rId1"/>
          <a:stretch/>
        </p:blipFill>
        <p:spPr>
          <a:xfrm>
            <a:off x="2133720" y="2819520"/>
            <a:ext cx="5688000" cy="3763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295280" y="5335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The Leader</a:t>
            </a:r>
            <a:r>
              <a:rPr b="0" lang="en-GB" sz="5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1639800"/>
            <a:ext cx="70102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*dual role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Times New Roman"/>
              </a:rPr>
              <a:t>leader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4400" spc="-1" strike="noStrike">
                <a:solidFill>
                  <a:srgbClr val="0000cc"/>
                </a:solidFill>
                <a:latin typeface="Times New Roman"/>
              </a:rPr>
              <a:t>participant.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eps the discussion focused on the text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king follow-u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lping clarify positions when arguments become conf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volving reluctant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Participan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Share responsibilit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or the quality of the semina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kid questioning"/>
          <p:cNvPicPr/>
          <p:nvPr/>
        </p:nvPicPr>
        <p:blipFill>
          <a:blip r:embed="rId1"/>
          <a:stretch/>
        </p:blipFill>
        <p:spPr>
          <a:xfrm>
            <a:off x="6172200" y="3733920"/>
            <a:ext cx="2685960" cy="2943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1143000" y="30481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ost effectiv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when                     participa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the text closely                          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 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Participan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ost effectiv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when participa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kid questioning"/>
          <p:cNvPicPr/>
          <p:nvPr/>
        </p:nvPicPr>
        <p:blipFill>
          <a:blip r:embed="rId1"/>
          <a:stretch/>
        </p:blipFill>
        <p:spPr>
          <a:xfrm>
            <a:off x="6172200" y="3733920"/>
            <a:ext cx="2685960" cy="2943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11430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hare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ideas and                                       questions in response                                    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for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vidence                                    in the tex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support                                            thei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signing the Bes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end of a successful Socratic Seminar, participants ofte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leave with more ques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han they brought with the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73"/>
          <p:cNvSpPr/>
          <p:nvPr/>
        </p:nvSpPr>
        <p:spPr>
          <a:xfrm>
            <a:off x="5238720" y="4424400"/>
            <a:ext cx="6480" cy="1440"/>
          </a:xfrm>
          <a:prstGeom prst="pie">
            <a:avLst/>
          </a:prstGeom>
          <a:solidFill>
            <a:srgbClr val="e6a2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6"/>
          <p:cNvGrpSpPr/>
          <p:nvPr/>
        </p:nvGrpSpPr>
        <p:grpSpPr>
          <a:xfrm>
            <a:off x="3657600" y="3733920"/>
            <a:ext cx="2757240" cy="2674440"/>
            <a:chOff x="3657600" y="3733920"/>
            <a:chExt cx="2757240" cy="2674440"/>
          </a:xfrm>
        </p:grpSpPr>
        <p:sp>
          <p:nvSpPr>
            <p:cNvPr id="217" name="Freeform 6"/>
            <p:cNvSpPr/>
            <p:nvPr/>
          </p:nvSpPr>
          <p:spPr>
            <a:xfrm>
              <a:off x="3657600" y="6062400"/>
              <a:ext cx="498240" cy="345960"/>
            </a:xfrm>
            <a:prstGeom prst="pie">
              <a:avLst/>
            </a:prstGeom>
            <a:solidFill>
              <a:srgbClr val="40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"/>
            <p:cNvSpPr/>
            <p:nvPr/>
          </p:nvSpPr>
          <p:spPr>
            <a:xfrm>
              <a:off x="4487760" y="5788080"/>
              <a:ext cx="1714320" cy="442440"/>
            </a:xfrm>
            <a:prstGeom prst="pie">
              <a:avLst/>
            </a:prstGeom>
            <a:solidFill>
              <a:srgbClr val="40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>
              <a:off x="3848040" y="4581360"/>
              <a:ext cx="865080" cy="95868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6"/>
            <p:cNvSpPr/>
            <p:nvPr/>
          </p:nvSpPr>
          <p:spPr>
            <a:xfrm>
              <a:off x="4728960" y="5197320"/>
              <a:ext cx="362160" cy="34272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7"/>
            <p:cNvSpPr/>
            <p:nvPr/>
          </p:nvSpPr>
          <p:spPr>
            <a:xfrm>
              <a:off x="5225760" y="5433840"/>
              <a:ext cx="113040" cy="10620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5354640" y="4495680"/>
              <a:ext cx="1033200" cy="104436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3673440" y="5540400"/>
              <a:ext cx="619200" cy="59652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4570200" y="5540400"/>
              <a:ext cx="987480" cy="34560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5875200" y="5540400"/>
              <a:ext cx="539640" cy="17568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3673440" y="4581360"/>
              <a:ext cx="1039680" cy="15555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5354640" y="4495680"/>
              <a:ext cx="1060200" cy="12204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4570200" y="5197320"/>
              <a:ext cx="987480" cy="6886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4419360" y="4606920"/>
              <a:ext cx="198720" cy="171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4583160" y="4581360"/>
              <a:ext cx="129960" cy="196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5627520" y="4521240"/>
              <a:ext cx="142920" cy="2566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4246560" y="4944960"/>
              <a:ext cx="39600" cy="853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9"/>
            <p:cNvSpPr/>
            <p:nvPr/>
          </p:nvSpPr>
          <p:spPr>
            <a:xfrm>
              <a:off x="4441680" y="4778280"/>
              <a:ext cx="181080" cy="252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0"/>
            <p:cNvSpPr/>
            <p:nvPr/>
          </p:nvSpPr>
          <p:spPr>
            <a:xfrm>
              <a:off x="5429160" y="4875120"/>
              <a:ext cx="81000" cy="1551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1"/>
            <p:cNvSpPr/>
            <p:nvPr/>
          </p:nvSpPr>
          <p:spPr>
            <a:xfrm>
              <a:off x="5587920" y="4778280"/>
              <a:ext cx="123840" cy="252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2"/>
            <p:cNvSpPr/>
            <p:nvPr/>
          </p:nvSpPr>
          <p:spPr>
            <a:xfrm>
              <a:off x="5749920" y="4833720"/>
              <a:ext cx="90360" cy="196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3"/>
            <p:cNvSpPr/>
            <p:nvPr/>
          </p:nvSpPr>
          <p:spPr>
            <a:xfrm>
              <a:off x="5860800" y="4917960"/>
              <a:ext cx="32040" cy="1123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4"/>
            <p:cNvSpPr/>
            <p:nvPr/>
          </p:nvSpPr>
          <p:spPr>
            <a:xfrm>
              <a:off x="5945040" y="5002200"/>
              <a:ext cx="15840" cy="28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5"/>
            <p:cNvSpPr/>
            <p:nvPr/>
          </p:nvSpPr>
          <p:spPr>
            <a:xfrm>
              <a:off x="4636800" y="4778280"/>
              <a:ext cx="74880" cy="169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6"/>
            <p:cNvSpPr/>
            <p:nvPr/>
          </p:nvSpPr>
          <p:spPr>
            <a:xfrm>
              <a:off x="4043160" y="5476680"/>
              <a:ext cx="73080" cy="140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7"/>
            <p:cNvSpPr/>
            <p:nvPr/>
          </p:nvSpPr>
          <p:spPr>
            <a:xfrm>
              <a:off x="4819680" y="5311800"/>
              <a:ext cx="58680" cy="1789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8"/>
            <p:cNvSpPr/>
            <p:nvPr/>
          </p:nvSpPr>
          <p:spPr>
            <a:xfrm>
              <a:off x="5354640" y="5030640"/>
              <a:ext cx="736560" cy="460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49"/>
            <p:cNvSpPr/>
            <p:nvPr/>
          </p:nvSpPr>
          <p:spPr>
            <a:xfrm>
              <a:off x="5918040" y="5394240"/>
              <a:ext cx="42840" cy="964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0"/>
            <p:cNvSpPr/>
            <p:nvPr/>
          </p:nvSpPr>
          <p:spPr>
            <a:xfrm>
              <a:off x="5992560" y="5324400"/>
              <a:ext cx="122400" cy="1663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1"/>
            <p:cNvSpPr/>
            <p:nvPr/>
          </p:nvSpPr>
          <p:spPr>
            <a:xfrm>
              <a:off x="4108320" y="5030640"/>
              <a:ext cx="326880" cy="414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2"/>
            <p:cNvSpPr/>
            <p:nvPr/>
          </p:nvSpPr>
          <p:spPr>
            <a:xfrm>
              <a:off x="4527360" y="5030640"/>
              <a:ext cx="135000" cy="2584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3"/>
            <p:cNvSpPr/>
            <p:nvPr/>
          </p:nvSpPr>
          <p:spPr>
            <a:xfrm>
              <a:off x="5610240" y="5030640"/>
              <a:ext cx="74520" cy="1947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4"/>
            <p:cNvSpPr/>
            <p:nvPr/>
          </p:nvSpPr>
          <p:spPr>
            <a:xfrm>
              <a:off x="3973320" y="5491080"/>
              <a:ext cx="273240" cy="142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5"/>
            <p:cNvSpPr/>
            <p:nvPr/>
          </p:nvSpPr>
          <p:spPr>
            <a:xfrm>
              <a:off x="4165560" y="5581440"/>
              <a:ext cx="81000" cy="52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6"/>
            <p:cNvSpPr/>
            <p:nvPr/>
          </p:nvSpPr>
          <p:spPr>
            <a:xfrm>
              <a:off x="4686120" y="5532480"/>
              <a:ext cx="46080" cy="1011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7"/>
            <p:cNvSpPr/>
            <p:nvPr/>
          </p:nvSpPr>
          <p:spPr>
            <a:xfrm>
              <a:off x="4819680" y="5491080"/>
              <a:ext cx="85680" cy="142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58"/>
            <p:cNvSpPr/>
            <p:nvPr/>
          </p:nvSpPr>
          <p:spPr>
            <a:xfrm>
              <a:off x="5783040" y="5491080"/>
              <a:ext cx="427320" cy="142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59"/>
            <p:cNvSpPr/>
            <p:nvPr/>
          </p:nvSpPr>
          <p:spPr>
            <a:xfrm>
              <a:off x="4054320" y="5634000"/>
              <a:ext cx="111240" cy="536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0"/>
            <p:cNvSpPr/>
            <p:nvPr/>
          </p:nvSpPr>
          <p:spPr>
            <a:xfrm>
              <a:off x="4084560" y="5634000"/>
              <a:ext cx="90360" cy="536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1"/>
            <p:cNvSpPr/>
            <p:nvPr/>
          </p:nvSpPr>
          <p:spPr>
            <a:xfrm>
              <a:off x="4570200" y="5634000"/>
              <a:ext cx="189000" cy="252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2"/>
            <p:cNvSpPr/>
            <p:nvPr/>
          </p:nvSpPr>
          <p:spPr>
            <a:xfrm>
              <a:off x="4854600" y="5634000"/>
              <a:ext cx="703080" cy="2185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3"/>
            <p:cNvSpPr/>
            <p:nvPr/>
          </p:nvSpPr>
          <p:spPr>
            <a:xfrm>
              <a:off x="6110280" y="5634000"/>
              <a:ext cx="100080" cy="392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4"/>
            <p:cNvSpPr/>
            <p:nvPr/>
          </p:nvSpPr>
          <p:spPr>
            <a:xfrm>
              <a:off x="3673440" y="5786280"/>
              <a:ext cx="198360" cy="3506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5"/>
            <p:cNvSpPr/>
            <p:nvPr/>
          </p:nvSpPr>
          <p:spPr>
            <a:xfrm>
              <a:off x="3811320" y="3924360"/>
              <a:ext cx="2589480" cy="2449080"/>
            </a:xfrm>
            <a:prstGeom prst="pie">
              <a:avLst/>
            </a:prstGeom>
            <a:solidFill>
              <a:srgbClr val="ffb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6"/>
            <p:cNvSpPr/>
            <p:nvPr/>
          </p:nvSpPr>
          <p:spPr>
            <a:xfrm>
              <a:off x="3811320" y="3924360"/>
              <a:ext cx="2589480" cy="24490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7"/>
            <p:cNvSpPr/>
            <p:nvPr/>
          </p:nvSpPr>
          <p:spPr>
            <a:xfrm>
              <a:off x="4620960" y="4316400"/>
              <a:ext cx="9720" cy="10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68"/>
            <p:cNvSpPr/>
            <p:nvPr/>
          </p:nvSpPr>
          <p:spPr>
            <a:xfrm>
              <a:off x="4670280" y="4010040"/>
              <a:ext cx="371520" cy="3060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69"/>
            <p:cNvSpPr/>
            <p:nvPr/>
          </p:nvSpPr>
          <p:spPr>
            <a:xfrm>
              <a:off x="5105160" y="4233600"/>
              <a:ext cx="239760" cy="8244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0"/>
            <p:cNvSpPr/>
            <p:nvPr/>
          </p:nvSpPr>
          <p:spPr>
            <a:xfrm>
              <a:off x="5367240" y="4302000"/>
              <a:ext cx="23760" cy="1404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1"/>
            <p:cNvSpPr/>
            <p:nvPr/>
          </p:nvSpPr>
          <p:spPr>
            <a:xfrm>
              <a:off x="4703760" y="4749840"/>
              <a:ext cx="141120" cy="550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2"/>
            <p:cNvSpPr/>
            <p:nvPr/>
          </p:nvSpPr>
          <p:spPr>
            <a:xfrm>
              <a:off x="4581360" y="4316400"/>
              <a:ext cx="812880" cy="48852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4"/>
            <p:cNvSpPr/>
            <p:nvPr/>
          </p:nvSpPr>
          <p:spPr>
            <a:xfrm>
              <a:off x="5114880" y="4316400"/>
              <a:ext cx="276120" cy="820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5"/>
            <p:cNvSpPr/>
            <p:nvPr/>
          </p:nvSpPr>
          <p:spPr>
            <a:xfrm>
              <a:off x="4500360" y="4805280"/>
              <a:ext cx="401760" cy="5886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6"/>
            <p:cNvSpPr/>
            <p:nvPr/>
          </p:nvSpPr>
          <p:spPr>
            <a:xfrm>
              <a:off x="5057640" y="4875120"/>
              <a:ext cx="289080" cy="51876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7"/>
            <p:cNvSpPr/>
            <p:nvPr/>
          </p:nvSpPr>
          <p:spPr>
            <a:xfrm>
              <a:off x="5224320" y="4805280"/>
              <a:ext cx="414360" cy="5886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8"/>
            <p:cNvSpPr/>
            <p:nvPr/>
          </p:nvSpPr>
          <p:spPr>
            <a:xfrm>
              <a:off x="4965480" y="4805280"/>
              <a:ext cx="139680" cy="568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79"/>
            <p:cNvSpPr/>
            <p:nvPr/>
          </p:nvSpPr>
          <p:spPr>
            <a:xfrm>
              <a:off x="3811320" y="5394240"/>
              <a:ext cx="868680" cy="9774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0"/>
            <p:cNvSpPr/>
            <p:nvPr/>
          </p:nvSpPr>
          <p:spPr>
            <a:xfrm>
              <a:off x="5205240" y="5394240"/>
              <a:ext cx="996840" cy="8316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1"/>
            <p:cNvSpPr/>
            <p:nvPr/>
          </p:nvSpPr>
          <p:spPr>
            <a:xfrm>
              <a:off x="5608440" y="5394240"/>
              <a:ext cx="768600" cy="51696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2"/>
            <p:cNvSpPr/>
            <p:nvPr/>
          </p:nvSpPr>
          <p:spPr>
            <a:xfrm>
              <a:off x="4927320" y="5155920"/>
              <a:ext cx="322560" cy="6584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3"/>
            <p:cNvSpPr/>
            <p:nvPr/>
          </p:nvSpPr>
          <p:spPr>
            <a:xfrm>
              <a:off x="4927320" y="5155920"/>
              <a:ext cx="322560" cy="658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4"/>
            <p:cNvSpPr/>
            <p:nvPr/>
          </p:nvSpPr>
          <p:spPr>
            <a:xfrm>
              <a:off x="4522680" y="3733920"/>
              <a:ext cx="1071720" cy="944280"/>
            </a:xfrm>
            <a:prstGeom prst="pie">
              <a:avLst/>
            </a:prstGeom>
            <a:solidFill>
              <a:srgbClr val="8d5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5"/>
            <p:cNvSpPr/>
            <p:nvPr/>
          </p:nvSpPr>
          <p:spPr>
            <a:xfrm>
              <a:off x="4522680" y="3733920"/>
              <a:ext cx="1071720" cy="9442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6"/>
            <p:cNvSpPr/>
            <p:nvPr/>
          </p:nvSpPr>
          <p:spPr>
            <a:xfrm>
              <a:off x="4908600" y="4619520"/>
              <a:ext cx="301320" cy="43920"/>
            </a:xfrm>
            <a:prstGeom prst="pie">
              <a:avLst/>
            </a:prstGeom>
            <a:solidFill>
              <a:srgbClr val="cc7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7"/>
            <p:cNvSpPr/>
            <p:nvPr/>
          </p:nvSpPr>
          <p:spPr>
            <a:xfrm>
              <a:off x="4908600" y="4640040"/>
              <a:ext cx="301320" cy="66240"/>
            </a:xfrm>
            <a:prstGeom prst="pie">
              <a:avLst/>
            </a:prstGeom>
            <a:solidFill>
              <a:srgbClr val="ff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8"/>
            <p:cNvSpPr/>
            <p:nvPr/>
          </p:nvSpPr>
          <p:spPr>
            <a:xfrm>
              <a:off x="4871880" y="4848120"/>
              <a:ext cx="330120" cy="3790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89"/>
            <p:cNvSpPr/>
            <p:nvPr/>
          </p:nvSpPr>
          <p:spPr>
            <a:xfrm>
              <a:off x="4914720" y="4690800"/>
              <a:ext cx="352440" cy="712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0"/>
            <p:cNvSpPr/>
            <p:nvPr/>
          </p:nvSpPr>
          <p:spPr>
            <a:xfrm>
              <a:off x="4630680" y="4387680"/>
              <a:ext cx="47520" cy="15372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1"/>
            <p:cNvSpPr/>
            <p:nvPr/>
          </p:nvSpPr>
          <p:spPr>
            <a:xfrm>
              <a:off x="5449680" y="4427280"/>
              <a:ext cx="52560" cy="982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2"/>
            <p:cNvSpPr/>
            <p:nvPr/>
          </p:nvSpPr>
          <p:spPr>
            <a:xfrm>
              <a:off x="4786200" y="4281480"/>
              <a:ext cx="187200" cy="280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3"/>
            <p:cNvSpPr/>
            <p:nvPr/>
          </p:nvSpPr>
          <p:spPr>
            <a:xfrm>
              <a:off x="5143320" y="4281480"/>
              <a:ext cx="181080" cy="280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4"/>
            <p:cNvSpPr/>
            <p:nvPr/>
          </p:nvSpPr>
          <p:spPr>
            <a:xfrm>
              <a:off x="4713120" y="4203720"/>
              <a:ext cx="309600" cy="69480"/>
            </a:xfrm>
            <a:prstGeom prst="pie">
              <a:avLst/>
            </a:prstGeom>
            <a:solidFill>
              <a:srgbClr val="8d5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5"/>
            <p:cNvSpPr/>
            <p:nvPr/>
          </p:nvSpPr>
          <p:spPr>
            <a:xfrm>
              <a:off x="5118120" y="4205160"/>
              <a:ext cx="261720" cy="68040"/>
            </a:xfrm>
            <a:prstGeom prst="pie">
              <a:avLst/>
            </a:prstGeom>
            <a:solidFill>
              <a:srgbClr val="8d5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6"/>
            <p:cNvSpPr/>
            <p:nvPr/>
          </p:nvSpPr>
          <p:spPr>
            <a:xfrm>
              <a:off x="4819680" y="4284720"/>
              <a:ext cx="1364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7"/>
            <p:cNvSpPr/>
            <p:nvPr/>
          </p:nvSpPr>
          <p:spPr>
            <a:xfrm>
              <a:off x="5163840" y="4284720"/>
              <a:ext cx="13680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8"/>
            <p:cNvSpPr/>
            <p:nvPr/>
          </p:nvSpPr>
          <p:spPr>
            <a:xfrm>
              <a:off x="5157720" y="4287600"/>
              <a:ext cx="16668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9"/>
            <p:cNvSpPr/>
            <p:nvPr/>
          </p:nvSpPr>
          <p:spPr>
            <a:xfrm>
              <a:off x="4798800" y="4287600"/>
              <a:ext cx="16344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0"/>
            <p:cNvSpPr/>
            <p:nvPr/>
          </p:nvSpPr>
          <p:spPr>
            <a:xfrm>
              <a:off x="4962240" y="4505040"/>
              <a:ext cx="842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1"/>
            <p:cNvSpPr/>
            <p:nvPr/>
          </p:nvSpPr>
          <p:spPr>
            <a:xfrm>
              <a:off x="5076720" y="4505040"/>
              <a:ext cx="824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02"/>
            <p:cNvSpPr/>
            <p:nvPr/>
          </p:nvSpPr>
          <p:spPr>
            <a:xfrm>
              <a:off x="4878360" y="4325760"/>
              <a:ext cx="2052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3"/>
            <p:cNvSpPr/>
            <p:nvPr/>
          </p:nvSpPr>
          <p:spPr>
            <a:xfrm>
              <a:off x="5209920" y="4325760"/>
              <a:ext cx="288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4"/>
            <p:cNvSpPr/>
            <p:nvPr/>
          </p:nvSpPr>
          <p:spPr>
            <a:xfrm>
              <a:off x="4713120" y="4721040"/>
              <a:ext cx="679320" cy="141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5"/>
            <p:cNvSpPr/>
            <p:nvPr/>
          </p:nvSpPr>
          <p:spPr>
            <a:xfrm>
              <a:off x="4914720" y="4732200"/>
              <a:ext cx="341280" cy="95040"/>
            </a:xfrm>
            <a:prstGeom prst="pie">
              <a:avLst/>
            </a:prstGeom>
            <a:solidFill>
              <a:srgbClr val="ffb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Benefits include: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me to engage in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in-dep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iscussions, problem solving, and clarification of id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a strong,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collabora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ork cul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Enhanced knowled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research 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Increased suc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for all stud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respe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for diverse ideas,         people, and pract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a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positive learning                 environ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for all stud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7543800" y="4038480"/>
          <a:ext cx="1073160" cy="25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038480"/>
                    <a:ext cx="107316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2" dur="1" fill="hold"/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371600" y="2666880"/>
            <a:ext cx="7086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1143000" y="457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    </a:t>
            </a: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SET UP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1447920" y="1523880"/>
            <a:ext cx="7086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ks arranged in a cir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given in adv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45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er is ready with an opening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nts respond with textual evidence for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nts respond with questions to information   they h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s do not raise h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lect and Debri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ability through final written 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8"/>
          <p:cNvGraphicFramePr/>
          <p:nvPr/>
        </p:nvGraphicFramePr>
        <p:xfrm>
          <a:off x="5029200" y="609480"/>
          <a:ext cx="3505320" cy="26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609480"/>
                    <a:ext cx="350532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990720" y="3049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Expectations of Participant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295280" y="990720"/>
            <a:ext cx="7620120" cy="62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Did I…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peak loudly and clearl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ite reasons and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evidenc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for my statement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tex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to find suppor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Liste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to others respectfull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tick with the subjec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alk to others, not just to the leader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Paraphras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accurate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void inappropriate langua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question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to clear up confusion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upport other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void hostile exchange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Question others in a civil manner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eem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prepared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Flashcard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ocratic Seminar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ratic comes from the name 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ocrat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, 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lassical Greek philosop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ocrates believed that: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  <a:ea typeface="SimSun"/>
              </a:rPr>
              <a:t>students learn best by asking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inars create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alog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t deb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share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s and questio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 search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vidence in the tex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id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 do not raise ha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824480" y="609480"/>
            <a:ext cx="64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What does </a:t>
            </a:r>
            <a:r>
              <a:rPr b="1" i="1" lang="en-GB" sz="4400" spc="-1" strike="noStrike">
                <a:solidFill>
                  <a:srgbClr val="cc3300"/>
                </a:solidFill>
                <a:latin typeface="Times New Roman"/>
              </a:rPr>
              <a:t>Socratic</a:t>
            </a: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749520" y="1676520"/>
            <a:ext cx="8097840" cy="59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ratic comes from the n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Socrate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lassical Greek philosopher who develope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Theory of Knowled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urest way to attain </a:t>
            </a:r>
            <a:r>
              <a:rPr b="0" lang="en-GB" sz="3200" spc="-1" strike="noStrike">
                <a:solidFill>
                  <a:srgbClr val="cc3300"/>
                </a:solidFill>
                <a:latin typeface="Times New Roman"/>
              </a:rPr>
              <a:t>reliable knowled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rough the practice of </a:t>
            </a:r>
            <a:r>
              <a:rPr b="0" lang="en-GB" sz="3200" spc="-1" strike="noStrike">
                <a:solidFill>
                  <a:srgbClr val="cc3300"/>
                </a:solidFill>
                <a:latin typeface="Times New Roman"/>
              </a:rPr>
              <a:t>discipl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conversation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GB" sz="4000" spc="-1" strike="noStrike">
                <a:solidFill>
                  <a:srgbClr val="0000cc"/>
                </a:solidFill>
                <a:latin typeface="Times New Roman"/>
              </a:rPr>
              <a:t>dialect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1235160" cy="16002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The Vis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ocrates believed that enabling students to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ink for themselv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was more important than filling their heads with                                  </a:t>
            </a:r>
            <a:r>
              <a:rPr b="1" i="1" lang="en-US" sz="3600" spc="-1" strike="noStrike">
                <a:solidFill>
                  <a:srgbClr val="0000cc"/>
                </a:solidFill>
                <a:latin typeface="Arial"/>
                <a:ea typeface="Times New Roman"/>
              </a:rPr>
              <a:t>“right answers.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29" descr="Socratesclipart2"/>
          <p:cNvPicPr/>
          <p:nvPr/>
        </p:nvPicPr>
        <p:blipFill>
          <a:blip r:embed="rId1"/>
          <a:stretch/>
        </p:blipFill>
        <p:spPr>
          <a:xfrm>
            <a:off x="5257800" y="3573360"/>
            <a:ext cx="3568680" cy="3030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The Vis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s seek 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Times New Roman"/>
              </a:rPr>
              <a:t>deeper understandin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of complex ideas through rigorously thoughtful 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Times New Roman"/>
              </a:rPr>
              <a:t>dialogu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, rather than by memorizing bits of information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seminar"/>
          <p:cNvPicPr/>
          <p:nvPr/>
        </p:nvPicPr>
        <p:blipFill>
          <a:blip r:embed="rId1"/>
          <a:stretch/>
        </p:blipFill>
        <p:spPr>
          <a:xfrm>
            <a:off x="2133720" y="3505320"/>
            <a:ext cx="5773680" cy="3098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What is a Socratic Seminar?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Socratic seminar is a way of teaching founded by the Greek philosopher Socrat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ocrates believed tha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SimSun"/>
              </a:rPr>
              <a:t>students learn best by asking 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t is the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SimSun"/>
              </a:rPr>
              <a:t>teacher’s job to moderate the discussion instead of leading the discus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MCj03790670000[1]"/>
          <p:cNvPicPr/>
          <p:nvPr/>
        </p:nvPicPr>
        <p:blipFill>
          <a:blip r:embed="rId1"/>
          <a:stretch/>
        </p:blipFill>
        <p:spPr>
          <a:xfrm>
            <a:off x="5410080" y="2133720"/>
            <a:ext cx="2152800" cy="2901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What are Socratic Seminars?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ually range from 30-50 minu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ffective                                          Socratic Seminar                             create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ialog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as opposed to                                     debat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thinker female"/>
          <p:cNvPicPr/>
          <p:nvPr/>
        </p:nvPicPr>
        <p:blipFill>
          <a:blip r:embed="rId1"/>
          <a:stretch/>
        </p:blipFill>
        <p:spPr>
          <a:xfrm>
            <a:off x="5410080" y="2971800"/>
            <a:ext cx="3191040" cy="3263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y do we have Socratic Seminar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ocratic Seminars help us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  <a:ea typeface="SimSun"/>
              </a:rPr>
              <a:t>engage a text in clas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he thought process is when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  <a:ea typeface="SimSun"/>
              </a:rPr>
              <a:t>we work together to underst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 text it will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  <a:ea typeface="SimSun"/>
              </a:rPr>
              <a:t>help everyone’s understand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MCj04109170000[1]"/>
          <p:cNvPicPr/>
          <p:nvPr/>
        </p:nvPicPr>
        <p:blipFill>
          <a:blip r:embed="rId1"/>
          <a:stretch/>
        </p:blipFill>
        <p:spPr>
          <a:xfrm>
            <a:off x="4925880" y="2128680"/>
            <a:ext cx="3483000" cy="3438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Starting Dialogu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cc"/>
                </a:solidFill>
                <a:latin typeface="Arial"/>
              </a:rPr>
              <a:t>Asking questions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is the key!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A leader 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Arial"/>
              </a:rPr>
              <a:t>prompts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the use of dialogu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Participants learn to be less attached to their ideas and less reliant on persuasion for influencing opin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Dialogue is a skill of collaboration that enables groups to                          </a:t>
            </a:r>
            <a:r>
              <a:rPr b="1" sz="3200" spc="-1" strike="noStrike">
                <a:solidFill>
                  <a:srgbClr val="0000cc"/>
                </a:solidFill>
                <a:latin typeface="Arial"/>
              </a:rPr>
              <a:t>create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3200" spc="-1" strike="noStrike">
                <a:solidFill>
                  <a:srgbClr val="0000cc"/>
                </a:solidFill>
                <a:latin typeface="Arial"/>
              </a:rPr>
              <a:t>collective think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6858000" y="4876920"/>
          <a:ext cx="21114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876920"/>
                    <a:ext cx="21114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1:18:25Z</dcterms:created>
  <dc:creator>CSMS</dc:creator>
  <dc:description/>
  <dc:language>en-US</dc:language>
  <cp:lastModifiedBy>Nvasquez</cp:lastModifiedBy>
  <cp:lastPrinted>2001-08-14T21:30:16Z</cp:lastPrinted>
  <dcterms:modified xsi:type="dcterms:W3CDTF">2009-11-30T22:35:18Z</dcterms:modified>
  <cp:revision>29</cp:revision>
  <dc:subject/>
  <dc:title>PowerPoint Presentation</dc:title>
</cp:coreProperties>
</file>